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148-DFD0-4CC5-B935-1F2C4E4E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402-2910-498B-8057-A68878E1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67A-94E7-49E7-9BE0-C9073044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47BB-4BC0-4DE8-B66C-FDE4EDFC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D475-0454-4480-89C3-A596AB3E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D9B4-6F12-40C2-92C4-FC4DF353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2B82-7CEC-4734-85D2-2435142E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B435-58AE-47ED-8908-D5E3995E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BB74-0086-4EE7-AC75-2DBDBE67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B014-0589-4180-9726-F266C6EB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9BB3-3C53-4B8A-972D-CA2417FF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D90-3C32-4F76-A3E3-9D6E4AA7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C776-A0D4-4D26-8838-515E51FF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EBEB-BFFA-41A3-8424-5B89CC98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E36A-A018-4A00-B69C-01B4346C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C1CC-E560-480B-A835-D7097C49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DAD5-8067-4D80-93CC-176C33C3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6025-410A-432D-9A38-FF19B35D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1D9-08D2-4694-A19C-AB2769FF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76F-48F1-4955-B5F6-EC833AD5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963-97F0-4B03-9E5A-AB1E49D6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D979-DC8E-4D91-AE68-7F471489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EFA-E95B-4C20-8B2C-30F0B424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78C6-1CE9-424F-8FB4-BB54C539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9937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任意多边形 39938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任意多边形 39939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任意多边形 39940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圆角矩形 3994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D823-F717-42B8-BBA5-5F5F79DC95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40961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任意多边形 40962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任意多边形 40963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任意多边形 40964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圆角矩形 4096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23E8-67BB-4DD9-A928-8DEBC4458A95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六章   保险投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实物资产投资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最主要的是不动产投资，也包括一些机械设备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我国保险投资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01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年《保险资金运用管理办法》明确规定保险资金运用限于下列形式： （一）银行存款； （二）买卖债券、股票、证券投资基金份额等有价证券； （三）投资不动产； （四）投资股权； （五）国务院规定的其他资金运用形式。 保险资金从事境外投资的，应当符合中国保监会、中国人民银行和国家外汇管理局的相关规定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第四节 保险投资主体模式的选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公司内设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委托专业的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专业化保险资产管理公司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保险投资风险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政府对保险业投资风险的监管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对保险投资范围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对保险投资比例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对投资资产与负债的配比关系的限制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对金融衍生工具的使用限制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公司对投资风险的管理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制定合理的投资策略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资产分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投资组合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资产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析保险投资的资金来源和性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一般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特殊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我国保险投资的主要方式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监管机构应从哪些方面加强对保险公司投资风险的管理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应该如何制定保险投资策略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何选择证券组合可以降低非系统性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利率免疫技术？保险公司如何运用利率免疫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术防范债券投资的利率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投资的资金来源与性质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保险投资资金的来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自有资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本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积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负债资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寿险未到期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赔款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储金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存入分保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责任准备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资金的性质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负债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稳定性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性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保险投资的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投资的一般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收益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流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的特殊条件约束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称性条件约束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替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转移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衡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第三节   保险投资的形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金融资产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债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债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贷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股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cp:keywords/>
  <dc:language>en-US</dc:language>
  <cp:lastModifiedBy>苏菲的小猫</cp:lastModifiedBy>
  <dcterms:modified xsi:type="dcterms:W3CDTF">2020-05-25T05:50:13Z</dcterms:modified>
  <cp:revision>23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4</vt:lpwstr>
  </property>
</Properties>
</file>